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A4CB3-010F-40A3-A173-0F9F692CB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749A5-B37C-4000-A4D7-8C65A3E11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D2622-59DF-462B-B265-B2434C48D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DA748-AF29-4F62-8C1D-14AA6C835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8EC9-0BC9-40A7-8814-67AB3E48D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45BC3-0BEB-438D-B5E4-17E90D8E04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9A2D5-E50C-40E1-A466-10CA78527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ECD46-3F1C-436B-BBF0-A5C03D11B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405CE-6029-4D8C-A029-1651F952A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4B8-B399-42B4-ACD8-EADA0B90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747-FF38-456B-826B-7D01BDBE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1BC-B00C-46F8-9C37-96E4B7BD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DC6-DB30-4BEF-96F8-449C0173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155-67C8-4E80-86F6-0407DEDB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D78-3190-45A5-9044-C901191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A3B-D250-4BDE-8465-A7724CC8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1F4-D2B9-4D4E-A5B2-576C3573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349-E3F5-45A1-ABB6-FD397E22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2CF-1428-42C8-842C-83A308A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1DB-2FCF-4D6A-BEF4-50BC5D04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CAD-CDE9-4639-90F5-156B1208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C5F218-F46F-4195-8A43-5EE2BB626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444400" y="1957320"/>
            <a:ext cx="51519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Love The Lord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1819800" y="1476360"/>
            <a:ext cx="637128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271960" y="426960"/>
            <a:ext cx="552096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2252160" y="426960"/>
            <a:ext cx="521748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810880" y="274680"/>
            <a:ext cx="439164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prais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prais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ser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trust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trust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458440" y="1036800"/>
            <a:ext cx="52174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3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0-03-06T00:22:35Z</dcterms:modified>
  <cp:revision>2</cp:revision>
  <dc:subject/>
  <dc:title>Slide 1</dc:title>
</cp:coreProperties>
</file>